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8C90-FDC9-40E7-B701-97F97BDF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4C21-E771-4357-982A-0FA10A83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6816-E7EA-4E60-A8D9-13134675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BAE8-D3F2-4E55-B295-147F36FC8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7745-17A8-4B3E-890B-6F8FD404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C4BE-4620-474F-8091-C60A387F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D279-7B95-4841-8611-BB97DB6B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E2A8-7130-442E-911A-6666829B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598C-E6A3-432C-8BB7-C57E8134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59CD-AE5F-4BFC-A00D-27FD54B2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96DB-57B7-4346-AFE9-C29A4CF4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0919-D9A1-4CC9-B503-6AD267AD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9401-AF02-4A9C-A4F1-E7A769A31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93 Uplynulý tý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z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Uplynulý týždeň z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ol si s nami, Pane n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ečnej chvály počuj hlas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v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nebesiach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,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kd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trón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svoj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máš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: Pred tebou sa skláňa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chválu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sť ti vzdávame.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voj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 sľubom veríme,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tvoju lásku, dobrot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 dar Ducha prosí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torý vedie k život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: Odním bôle, star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ud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pravej radosti. :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y sa k tebe blíži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ústrety nám vyjdi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y vieš, po čom túži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ukáž svoju slávu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: Už tu sčasti skúsiť d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o nám chystá večný raj. :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ojím Slovom potešu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útechu daj kajúci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obré snahy upevňu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suš slzy plačúci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: Sobotný deň posväť 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a zemi i v nebi tam. :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8:43:04Z</dcterms:modified>
  <cp:revision>22</cp:revision>
  <dc:subject/>
  <dc:title>Je veľký náš Pán, on slávy je Kráľ Nech do všetkých strán  spev vrúcnych znie chvál.</dc:title>
</cp:coreProperties>
</file>